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C67-3DE0-4D41-91F2-3CAB04C731E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DA22-338D-43B5-A1A7-E09CD67A64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A44-5827-4B88-B7E5-9964B838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792-1814-4C59-9BFB-A7E55B60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D20-21E3-4FD5-932C-229A0103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F85-65DC-4250-AADB-8202E666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EE3-80F9-4543-8E2A-C07383A0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4BD-BC72-4800-AD82-8CC6CFCE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29E-C4B0-4B95-90E0-9A0035F2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A3D-432B-4111-8B7B-715FA6B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A16-CCBD-4DF2-8891-C064C063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1BC-4A4C-46E0-8466-FD22AB5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9F6-564D-4EEB-B442-EE6EC7D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8FA-CB3A-49B9-ACB0-5E816A18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4DC-8503-4221-B403-48D4F893977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ndaluciaimagen.com/foto-Embalse-del-Tranco-de-Beas--Jaen_184048I0IA0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mbalse del Tranco de Beas, Jaé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2286000"/>
            <a:ext cx="3500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01:42:07Z</dcterms:created>
  <dc:creator>`pugo</dc:creator>
  <dc:description/>
  <dc:language>en-US</dc:language>
  <cp:lastModifiedBy>`pugo</cp:lastModifiedBy>
  <dcterms:modified xsi:type="dcterms:W3CDTF">2010-04-11T01:44:40Z</dcterms:modified>
  <cp:revision>2</cp:revision>
  <dc:subject/>
  <dc:title>FOTOS MANATIAL</dc:title>
</cp:coreProperties>
</file>